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8.jpeg" ContentType="image/jpeg"/>
  <Override PartName="/ppt/media/image1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11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6.jpeg" ContentType="image/jpeg"/>
  <Override PartName="/ppt/media/image27.jpeg" ContentType="image/jpeg"/>
  <Override PartName="/ppt/media/image23.jpeg" ContentType="image/jpeg"/>
  <Override PartName="/ppt/media/image20.png" ContentType="image/png"/>
  <Override PartName="/ppt/media/image2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26.png" ContentType="image/png"/>
  <Override PartName="/ppt/media/image18.jpeg" ContentType="image/jpe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9501-9153-4D38-B564-F0A97BED6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7DD6-80B9-4D09-8261-D7E707EAF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D3AD-2032-487E-B2AC-09408CB7C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A6E5-0C41-43A3-A16A-39B619B72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7B17-E499-423F-89B9-07E10AACC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BB2D-316F-4E4C-895B-21D786F06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756C-863B-45F7-9E88-939FC3EF6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990C-D01E-4D24-8083-C33D430C4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0D53-2A3C-4950-B03E-0B89D7C19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B87E-129B-4348-80C6-CC9EB263D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F5E4-6BC9-488D-AC74-ABF688B2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1DB1-1153-47D1-A584-E5713D4D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52D93-B145-44DF-879B-58E82E1C39B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533520" y="7621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 Small Cap"/>
              </a:rPr>
              <a:t>Hinduis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Picture 7" descr="vishnu"/>
          <p:cNvPicPr/>
          <p:nvPr/>
        </p:nvPicPr>
        <p:blipFill>
          <a:blip r:embed="rId1"/>
          <a:stretch/>
        </p:blipFill>
        <p:spPr>
          <a:xfrm>
            <a:off x="2819520" y="1600200"/>
            <a:ext cx="3190680" cy="45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152280" y="3049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erpetua"/>
              </a:rPr>
              <a:t>Buddhism – Main Belief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0" y="838080"/>
            <a:ext cx="9144000" cy="62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uddhism stresses self control &amp; equality for all people – complete opposite of the caste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uddhism also believes in reincarnation &amp; the seeking of a union w/ the divine essence (“nirvana”) – believed that anyone could find nirvana w/o any social or caste stru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re are 4 Noble Truths – all life is suffering; suffering is caused by desire; there is a way out of suffering; the way out of suffering is the Eightfold Pa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uddhists believe people must follow the “Eightfold Path” to achieve nirva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ravada Buddhism emphasizes meditation, simplicity and a renunciation of the “self” – Buddha is not considered a god and gods &amp; goddesses have little signific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hayana Buddhism was much more ritualistic – Buddha was considered a deity &amp; there were priests &amp; priestesses as well as written tex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0" descr="Nirvana_Kurt_Cobain_005"/>
          <p:cNvPicPr/>
          <p:nvPr/>
        </p:nvPicPr>
        <p:blipFill>
          <a:blip r:embed="rId1"/>
          <a:stretch/>
        </p:blipFill>
        <p:spPr>
          <a:xfrm>
            <a:off x="1219320" y="609480"/>
            <a:ext cx="6200640" cy="46483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1"/>
          <p:cNvSpPr/>
          <p:nvPr/>
        </p:nvSpPr>
        <p:spPr>
          <a:xfrm>
            <a:off x="990720" y="541008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By following the Eightfold Path, people can reach NIRVA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228600" y="3049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uddhism – Broader Impa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380880" y="1752480"/>
            <a:ext cx="838224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ddhism became widely popular in Asia due to its inclusiveness of all people regardless of gender, class, race or ethnicity – all could reach nirva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ddhism is one of the fastest growing religions in the world to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1066680" y="83808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doni MT Black"/>
              </a:rPr>
              <a:t>CONFUCIAN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6" descr="confucius_5"/>
          <p:cNvPicPr/>
          <p:nvPr/>
        </p:nvPicPr>
        <p:blipFill>
          <a:blip r:embed="rId1"/>
          <a:stretch/>
        </p:blipFill>
        <p:spPr>
          <a:xfrm>
            <a:off x="2895480" y="2438280"/>
            <a:ext cx="365760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457200" y="3808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Elephant"/>
              </a:rPr>
              <a:t>Confucianism - Origi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228600" y="914400"/>
            <a:ext cx="480060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Emerged out of the Era of Warring States after the fall of the Zhou Dynasty &amp; was developed specifically for Chinese culture in order to reestablish ord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Founded by Confucius (551-478 BCE) – an educator &amp; political advisor who was unable to gain high position in gov’t due to his opposition to many gov’t polic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Confucius &amp; his followers collected his thoughts &amp; teachings in </a:t>
            </a:r>
            <a:r>
              <a:rPr b="1" i="1" lang="en-US" sz="1800" spc="-1" strike="noStrike">
                <a:solidFill>
                  <a:srgbClr val="ffffff"/>
                </a:solidFill>
                <a:latin typeface="Book Antiqua"/>
              </a:rPr>
              <a:t>The Analects 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– which would have a profound impact on Chinese social &amp; political thou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Confucianism became widely practiced in China after 400 BCE – particularly in the Han Dynas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The Han Dynasty based its Civil Service Exam on </a:t>
            </a:r>
            <a:r>
              <a:rPr b="1" i="1" lang="en-US" sz="1800" spc="-1" strike="noStrike">
                <a:solidFill>
                  <a:srgbClr val="ffffff"/>
                </a:solidFill>
                <a:latin typeface="Book Antiqua"/>
              </a:rPr>
              <a:t>The Anale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7" descr="confucius2"/>
          <p:cNvPicPr/>
          <p:nvPr/>
        </p:nvPicPr>
        <p:blipFill>
          <a:blip r:embed="rId1"/>
          <a:stretch/>
        </p:blipFill>
        <p:spPr>
          <a:xfrm>
            <a:off x="5715000" y="1447920"/>
            <a:ext cx="3114720" cy="3971880"/>
          </a:xfrm>
          <a:prstGeom prst="rect">
            <a:avLst/>
          </a:prstGeom>
          <a:ln w="0">
            <a:noFill/>
          </a:ln>
        </p:spPr>
      </p:pic>
      <p:sp>
        <p:nvSpPr>
          <p:cNvPr id="72" name="Text Box 8"/>
          <p:cNvSpPr/>
          <p:nvPr/>
        </p:nvSpPr>
        <p:spPr>
          <a:xfrm>
            <a:off x="6172200" y="570708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fuciu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304920" y="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roadway"/>
              </a:rPr>
              <a:t>Confucianism – Main Belief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304920" y="838080"/>
            <a:ext cx="4267080" cy="57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nfucianism is NOT a religion, it is a social &amp; political philosophy based on moral &amp; ethical teaching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ts main concentration was establishment of political &amp; social order – a practical concern – it was NOT concerned w/ large philosophical issues such as salvation or the afterlif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nfucius argued that gov’t stability depended on well-educated officials who were able to put aside personal ambition for the good of the state (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Junzi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 sense of kindness (Ren), veneration of ancestors (Xiao or Filial Piety), respect for elders (Li), the family &amp; the patriarchal nature of society were central of Confucianist though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e focus was on FIVE (5) main relationships in which each had specific duties to uphold to maintain order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uler &amp; Subje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arent &amp; Chil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usband &amp; Wif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Older Brother &amp; Younger Bro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Friend &amp; Frie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7" descr="master"/>
          <p:cNvPicPr/>
          <p:nvPr/>
        </p:nvPicPr>
        <p:blipFill>
          <a:blip r:embed="rId1"/>
          <a:stretch/>
        </p:blipFill>
        <p:spPr>
          <a:xfrm>
            <a:off x="5272200" y="838080"/>
            <a:ext cx="2760480" cy="50292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8"/>
          <p:cNvSpPr/>
          <p:nvPr/>
        </p:nvSpPr>
        <p:spPr>
          <a:xfrm>
            <a:off x="5638680" y="6095880"/>
            <a:ext cx="22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atue of a Junz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304920" y="38088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doni MT Black"/>
              </a:rPr>
              <a:t>Confucianism – Broader Impa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152280" y="1287360"/>
            <a:ext cx="4343400" cy="60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ylfae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Sylfaen"/>
              </a:rPr>
              <a:t>B/C Confucianism is NOT a religion, it was widely compatible w/ other religious belief systems – this allowed Confucianism to flourish in Chinese socie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ylfae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Sylfaen"/>
              </a:rPr>
              <a:t>Gov’t readily accepted Confucianism in China b/c it was intended to create order &amp; stabi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ylfae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Sylfaen"/>
              </a:rPr>
              <a:t>Confucianism tended to reinforce many of the existing principles in Chinese society (Patriarchy, Veneration of Ancestors, Respect for Elders, Duties &amp; Responsibilities) &amp; led to extremely tight-knit communit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ylfae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Sylfaen"/>
              </a:rPr>
              <a:t>Confucianism only grew in the context of Chinese society – both politically &amp; socially - though many of its principles are compatible with other cultu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9" descr="Confucian"/>
          <p:cNvPicPr/>
          <p:nvPr/>
        </p:nvPicPr>
        <p:blipFill>
          <a:blip r:embed="rId1"/>
          <a:stretch/>
        </p:blipFill>
        <p:spPr>
          <a:xfrm>
            <a:off x="5410080" y="1752480"/>
            <a:ext cx="30481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914400" y="1219320"/>
            <a:ext cx="6934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pperplate Gothic Bold"/>
              </a:rPr>
              <a:t>Dao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6" descr="event_38010"/>
          <p:cNvPicPr/>
          <p:nvPr/>
        </p:nvPicPr>
        <p:blipFill>
          <a:blip r:embed="rId1"/>
          <a:stretch/>
        </p:blipFill>
        <p:spPr>
          <a:xfrm>
            <a:off x="2057400" y="1981080"/>
            <a:ext cx="4343400" cy="45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457200" y="37296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doni MT Black"/>
              </a:rPr>
              <a:t>Daoism - Orig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228600" y="1295280"/>
            <a:ext cx="3886200" cy="46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lfae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Sylfaen"/>
              </a:rPr>
              <a:t>Daoism also emerged out of the Era of Warring States as a means to end the chaos &amp; disor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lfae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Sylfaen"/>
              </a:rPr>
              <a:t>It was founded by Lao-zi (Lao-tsu) sometime in the 5</a:t>
            </a:r>
            <a:r>
              <a:rPr b="1" lang="en-US" sz="2000" spc="-1" strike="noStrike" baseline="30000">
                <a:solidFill>
                  <a:srgbClr val="ffffff"/>
                </a:solidFill>
                <a:latin typeface="Sylfaen"/>
              </a:rPr>
              <a:t>th</a:t>
            </a:r>
            <a:r>
              <a:rPr b="1" lang="en-US" sz="2000" spc="-1" strike="noStrike">
                <a:solidFill>
                  <a:srgbClr val="ffffff"/>
                </a:solidFill>
                <a:latin typeface="Sylfaen"/>
              </a:rPr>
              <a:t> BCE &amp; became widely practiced in Chinese socie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lfae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Sylfaen"/>
              </a:rPr>
              <a:t>Daoism did not reject Confucianism outright, but rather was able to coexist w/ the belief system – this added to the complex nature of Chinese socie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7" descr="Lao_Tseu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380880" y="3808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pperplate Gothic Bold"/>
              </a:rPr>
              <a:t>Daoism – Main Belief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228600" y="1143000"/>
            <a:ext cx="4648320" cy="65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ylfae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Sylfaen"/>
              </a:rPr>
              <a:t>Daoism (Taoism) is defined as “The Way” or the “The Way of Nature” &amp; is based on an elusive concept regarding the principles that governed the workings of the wor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ylfae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Sylfaen"/>
              </a:rPr>
              <a:t>The Dao is passive &amp; yielding – yet accomplishes everything – and concentrated on finding a balance in nature (Yin &amp; Ya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ylfae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Sylfaen"/>
              </a:rPr>
              <a:t>Daoist believe that humans should be yielding to “The Way” and that activism &amp; ambition only bring chaos &amp; disor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ylfae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Sylfaen"/>
              </a:rPr>
              <a:t>Humans should disengage from worldly affairs &amp; engage in a life that is in harmony with na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ylfae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Sylfaen"/>
              </a:rPr>
              <a:t>Political involvement &amp; education were UN-necessary in that balance w/ nature would resolve all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ylfae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Sylfaen"/>
              </a:rPr>
              <a:t>Advocated small, self-sufficient communit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7" descr="Beauty+in+the+nature"/>
          <p:cNvPicPr/>
          <p:nvPr/>
        </p:nvPicPr>
        <p:blipFill>
          <a:blip r:embed="rId1"/>
          <a:stretch/>
        </p:blipFill>
        <p:spPr>
          <a:xfrm>
            <a:off x="5029200" y="1066680"/>
            <a:ext cx="3933720" cy="29480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inciensario%20yin%20y%20yan"/>
          <p:cNvPicPr/>
          <p:nvPr/>
        </p:nvPicPr>
        <p:blipFill>
          <a:blip r:embed="rId2"/>
          <a:stretch/>
        </p:blipFill>
        <p:spPr>
          <a:xfrm>
            <a:off x="5715000" y="4267080"/>
            <a:ext cx="230508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609480" y="3808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elix Titling"/>
              </a:rPr>
              <a:t>Hinduism - orig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228600" y="1600200"/>
            <a:ext cx="876312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Originated in India from the literature, traditions &amp; class system of the Aryan invaders – but had NO single foun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Lack of a single founder allowed for evolution over time &amp; a variety of forms of worshi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The Hindu religion reinforced the existing caste structure – offering hope for improvement in one’s social position during reincar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Over time Hinduism eventually spawned the Buddhist relig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457200" y="4572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pperplate Gothic Bold"/>
              </a:rPr>
              <a:t>Daoism – Broader Impa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228600" y="1219320"/>
            <a:ext cx="4495680" cy="54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Daoist thought coexisted w/ Confucianism to create a belief in communal &amp; civic responsibility along w/ time for personal refl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Daoism also promoted scientific discovery in nature leading great astronomers, chemists &amp; botani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Daoism was concentrated mainly in China &amp; led to the complex society that emerged there, but its values have spread beyond China to the wider wor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Many beliefs are compatible or comparable to other relig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7" descr="ngc7331_gabany_f"/>
          <p:cNvPicPr/>
          <p:nvPr/>
        </p:nvPicPr>
        <p:blipFill>
          <a:blip r:embed="rId1"/>
          <a:stretch/>
        </p:blipFill>
        <p:spPr>
          <a:xfrm>
            <a:off x="5029200" y="1143000"/>
            <a:ext cx="390528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1143000" y="114300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pperplate Gothic Bold"/>
              </a:rPr>
              <a:t>Judais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6" descr="star-david"/>
          <p:cNvPicPr/>
          <p:nvPr/>
        </p:nvPicPr>
        <p:blipFill>
          <a:blip r:embed="rId1"/>
          <a:stretch/>
        </p:blipFill>
        <p:spPr>
          <a:xfrm>
            <a:off x="3429000" y="2362320"/>
            <a:ext cx="278604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304920" y="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Elephant"/>
              </a:rPr>
              <a:t>Judaism - Orig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152280" y="446040"/>
            <a:ext cx="4343400" cy="69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ylfae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Sylfaen"/>
              </a:rPr>
              <a:t>Hebrews migrated from the Arabian Peninsula &amp; into Egypt around 1700 BCE – many of whom were enslaved by the Egyptia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ylfae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Sylfaen"/>
              </a:rPr>
              <a:t>After Moses led the Hebrews from Egypt in 1300 BCE (Exodus) he was given the Ten Commandments &amp; it was revealed that the Hebrews were God’s chosen peop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ylfae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Sylfaen"/>
              </a:rPr>
              <a:t>Hebrews entered a covenant w/ God in which they were forbidden to worship any other gods &amp; must follow the Ten Command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ylfae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Sylfaen"/>
              </a:rPr>
              <a:t>The Hebrews returned to Israel &amp; established a monarchy which reached its peak under Kings David &amp; Solomon around 1000 B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ylfae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Sylfaen"/>
              </a:rPr>
              <a:t>Israel would be destroyed by the Assyrians &amp; Babylonians and incorporated into the Greek &amp; Roman Empires after 330 BCE – caused the mass migration of much of the popul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7" descr="israel_nbr90"/>
          <p:cNvPicPr/>
          <p:nvPr/>
        </p:nvPicPr>
        <p:blipFill>
          <a:blip r:embed="rId1"/>
          <a:stretch/>
        </p:blipFill>
        <p:spPr>
          <a:xfrm>
            <a:off x="4952880" y="533520"/>
            <a:ext cx="3867120" cy="37414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moses_with_tablets"/>
          <p:cNvPicPr/>
          <p:nvPr/>
        </p:nvPicPr>
        <p:blipFill>
          <a:blip r:embed="rId2"/>
          <a:stretch/>
        </p:blipFill>
        <p:spPr>
          <a:xfrm>
            <a:off x="6934320" y="4343400"/>
            <a:ext cx="1728720" cy="2171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1" descr="GezerSolomon"/>
          <p:cNvPicPr/>
          <p:nvPr/>
        </p:nvPicPr>
        <p:blipFill>
          <a:blip r:embed="rId3"/>
          <a:stretch/>
        </p:blipFill>
        <p:spPr>
          <a:xfrm>
            <a:off x="4572000" y="4572000"/>
            <a:ext cx="220968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533520" y="38088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Elephant"/>
              </a:rPr>
              <a:t>Judaism – Main Belief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28600" y="1135080"/>
            <a:ext cx="4419720" cy="51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Monotheism – there is only 1 Go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The task of humans is to honor &amp; serve God by following the Laws of Moses as contained in the Torah (The Old Testame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Judaism is centered around the belief that Hebrews have a unique relationship w/ God as the “chosen people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Though there are many traditions &amp; rituals associated w/ Judaism, it is also intended to preserve &amp; maintain the identity of a specific people (Jews) – Judaism is a set of religious beliefs AND a set of societal customs designed to hold the Jewish people toge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7" descr="torah"/>
          <p:cNvPicPr/>
          <p:nvPr/>
        </p:nvPicPr>
        <p:blipFill>
          <a:blip r:embed="rId1"/>
          <a:stretch/>
        </p:blipFill>
        <p:spPr>
          <a:xfrm>
            <a:off x="5791320" y="1295280"/>
            <a:ext cx="290484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380880" y="45720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Elephant"/>
              </a:rPr>
              <a:t>Judaism – Broader Impa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152280" y="1219320"/>
            <a:ext cx="426744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Judaism was the first of the major monotheistic religions (Christianity, Islam, Judais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Judaism, Islam &amp; Christianity all have common roots in Abraham &amp; share many similar characteristics &amp; practi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The beliefs of Judaism have been the driving force behind the political establishment &amp; maintenance of the state of Israe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Judaism has NO “missionary” belief regarding conversion of non-Jewish people but rather is confined to a very specific people &amp; cul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4481640" y="29700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9" descr="abraham_and_son"/>
          <p:cNvPicPr/>
          <p:nvPr/>
        </p:nvPicPr>
        <p:blipFill>
          <a:blip r:embed="rId1"/>
          <a:stretch/>
        </p:blipFill>
        <p:spPr>
          <a:xfrm>
            <a:off x="4800600" y="990720"/>
            <a:ext cx="3724200" cy="54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990720" y="152388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elix Titling"/>
              </a:rPr>
              <a:t>Christia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7" descr="jesus_cross"/>
          <p:cNvPicPr/>
          <p:nvPr/>
        </p:nvPicPr>
        <p:blipFill>
          <a:blip r:embed="rId1"/>
          <a:stretch/>
        </p:blipFill>
        <p:spPr>
          <a:xfrm>
            <a:off x="3581280" y="3124080"/>
            <a:ext cx="200988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228600" y="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 Small Cap"/>
              </a:rPr>
              <a:t>Christianity - Orig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152280" y="685800"/>
            <a:ext cx="4267440" cy="57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 first Christians were a splinter group of Jews following the teachings of Jesus Christ – a Jew born in Judea (present-day Israel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 first followers of Jesus were all Jews, but Paul began to spread the beliefs to non-Jews within the Roman Empire after Jesus’ death (around 30 CE) – his followers compiled a body of writings about his life &amp; teachings (New Testamen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 Roman system of roads &amp; communication allowed for Christianity to spread rapidly throughout the empire after 40 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mperor Constantine issued the Edict of Milan (313 CE) making Christianity legal in the Roman Empi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ue to the Silk Roads &amp; later an active missionary movement, Christianity spread to all corners of the glob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9" descr="RomanRoad"/>
          <p:cNvPicPr/>
          <p:nvPr/>
        </p:nvPicPr>
        <p:blipFill>
          <a:blip r:embed="rId1"/>
          <a:stretch/>
        </p:blipFill>
        <p:spPr>
          <a:xfrm>
            <a:off x="5181480" y="762120"/>
            <a:ext cx="3057480" cy="2400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1" descr="StPaul"/>
          <p:cNvPicPr/>
          <p:nvPr/>
        </p:nvPicPr>
        <p:blipFill>
          <a:blip r:embed="rId2"/>
          <a:stretch/>
        </p:blipFill>
        <p:spPr>
          <a:xfrm>
            <a:off x="5486400" y="3352680"/>
            <a:ext cx="25797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304920" y="2286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elix Titling"/>
              </a:rPr>
              <a:t>Christianity – Main Belief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228600" y="838080"/>
            <a:ext cx="4495680" cy="629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onotheistic – there is only one God &amp; his Son Jes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Jesus preached devotion to God and love &amp; compassion for fellow human being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All classes, genders &amp; races are equal before God &amp; that the faithful would be rewarded with eternal life in heaven w/ God – made the religion very appealing to the lower classes &amp; w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In order to be accepted into heaven, the faithful must accept Jesus Christ as their personal savi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Christians practice a wide variety of rituals intended to show their devotion &amp; fai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any Christian beliefs have evolved into a variety of branches of the same central relig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8" descr="prayer-hands_large"/>
          <p:cNvPicPr/>
          <p:nvPr/>
        </p:nvPicPr>
        <p:blipFill>
          <a:blip r:embed="rId1"/>
          <a:stretch/>
        </p:blipFill>
        <p:spPr>
          <a:xfrm>
            <a:off x="5638680" y="1066680"/>
            <a:ext cx="2500560" cy="26672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_482451_nuns300"/>
          <p:cNvPicPr/>
          <p:nvPr/>
        </p:nvPicPr>
        <p:blipFill>
          <a:blip r:embed="rId2"/>
          <a:stretch/>
        </p:blipFill>
        <p:spPr>
          <a:xfrm>
            <a:off x="5334120" y="4419720"/>
            <a:ext cx="28573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228600" y="30492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Orlando"/>
              </a:rPr>
              <a:t>Christianity – Broader Influ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152280" y="1219320"/>
            <a:ext cx="487692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ue to its popularity w/ the lower classes &amp; women, by 300 CE Christianity was the most influential religion in the Mediterranean Bas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fter a period of persecution, Christianity became legal and eventually the official religion of the Roman Empi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ristianity would have a huge impact on the European Era of Exploration and the colonization of the Americ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ristianity has followers on every continent &amp; in most countries of the wor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ch of Christianity’s popularity has to do w/ its missionary tradition of spreading the religion to non-Christian people &amp; its historical connection to nation-states in Euro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8" descr="Missionaries"/>
          <p:cNvPicPr/>
          <p:nvPr/>
        </p:nvPicPr>
        <p:blipFill>
          <a:blip r:embed="rId1"/>
          <a:stretch/>
        </p:blipFill>
        <p:spPr>
          <a:xfrm>
            <a:off x="5105520" y="914400"/>
            <a:ext cx="3790800" cy="28828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128964"/>
          <p:cNvPicPr/>
          <p:nvPr/>
        </p:nvPicPr>
        <p:blipFill>
          <a:blip r:embed="rId2"/>
          <a:stretch/>
        </p:blipFill>
        <p:spPr>
          <a:xfrm>
            <a:off x="5943600" y="4038480"/>
            <a:ext cx="1862280" cy="24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8" descr="world-top-ten-countries-with-largest-hindu-populations-map"/>
          <p:cNvPicPr/>
          <p:nvPr/>
        </p:nvPicPr>
        <p:blipFill>
          <a:blip r:embed="rId1"/>
          <a:stretch/>
        </p:blipFill>
        <p:spPr>
          <a:xfrm>
            <a:off x="0" y="228600"/>
            <a:ext cx="9175680" cy="61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web000.greece.k12.ny.us/SocialStudiesResources/Social_Studies_Resources/GHG_Documents/Caste%20System%20Triangle%2006.01.jpg"/>
          <p:cNvPicPr/>
          <p:nvPr/>
        </p:nvPicPr>
        <p:blipFill>
          <a:blip r:embed="rId1"/>
          <a:stretch/>
        </p:blipFill>
        <p:spPr>
          <a:xfrm>
            <a:off x="457200" y="1371600"/>
            <a:ext cx="5452920" cy="38862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aste Syste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8" name="Picture 4" descr="http://filipspagnoli.files.wordpress.com/2008/08/caste.jpg"/>
          <p:cNvPicPr/>
          <p:nvPr/>
        </p:nvPicPr>
        <p:blipFill>
          <a:blip r:embed="rId2"/>
          <a:stretch/>
        </p:blipFill>
        <p:spPr>
          <a:xfrm>
            <a:off x="6019920" y="3973680"/>
            <a:ext cx="2705040" cy="25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228600" y="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Hinduism – Main Belief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228600" y="838080"/>
            <a:ext cx="8458200" cy="50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erything in the world is part of the divine essence “Brahma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du Gods are manifestations of Brahma – namely Vishnu (the preserver); Shiva (the destroy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eaningful life is one that finds union w/ the divine soul – Brahma – through a process of reincarnation where the soul enters another person or anim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ts in this life will affect one’s placement in their next life (Karm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dividuals should follow the Dharma – rules &amp; obligations of one’s caste – to improve in their next life until the union w/ Brahma is achieved – Moksh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ttle are considered sacred – no consumption of bee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is no sacred text, though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he Veda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amp;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he Upanishad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– collections of hymns, prayers &amp; poems – guide Hind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Vishnu"/>
          <p:cNvPicPr/>
          <p:nvPr/>
        </p:nvPicPr>
        <p:blipFill>
          <a:blip r:embed="rId1"/>
          <a:stretch/>
        </p:blipFill>
        <p:spPr>
          <a:xfrm>
            <a:off x="533520" y="304920"/>
            <a:ext cx="3733560" cy="4190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shiva"/>
          <p:cNvPicPr/>
          <p:nvPr/>
        </p:nvPicPr>
        <p:blipFill>
          <a:blip r:embed="rId2"/>
          <a:stretch/>
        </p:blipFill>
        <p:spPr>
          <a:xfrm>
            <a:off x="4952880" y="2438280"/>
            <a:ext cx="3733920" cy="41911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838080" y="46483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bove – Vishn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5638680" y="17524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Below- Shi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1219320" y="99072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 Small Cap"/>
              </a:rPr>
              <a:t>Buddhis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7" descr="BlueLotusBuddha_8"/>
          <p:cNvPicPr/>
          <p:nvPr/>
        </p:nvPicPr>
        <p:blipFill>
          <a:blip r:embed="rId1"/>
          <a:stretch/>
        </p:blipFill>
        <p:spPr>
          <a:xfrm>
            <a:off x="2666880" y="1752480"/>
            <a:ext cx="38862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380880" y="3808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Felix Titling"/>
              </a:rPr>
              <a:t>Buddhism - Origi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228600" y="914400"/>
            <a:ext cx="845820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ddhism originated in India &amp; was founded by Prince Siddhartha Gautama (563 – 483 BCE) after a 6 year process of meditating about the problems of the wor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autama determined that human desire was the root of all problems &amp; began to spread his belief – he became known as “Buddha” or “The Enlightened One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ddha did NOT consider himself a deity or God (though others would) &amp; promoted the idea of a “divine essence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fter Buddha’s death (483 BCE) Buddhism split into 2 large movements – Theravada (Hinayana) Buddhism &amp; Mahayana Buddhi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8" descr="sakyamuni"/>
          <p:cNvPicPr/>
          <p:nvPr/>
        </p:nvPicPr>
        <p:blipFill>
          <a:blip r:embed="rId1"/>
          <a:stretch/>
        </p:blipFill>
        <p:spPr>
          <a:xfrm>
            <a:off x="2438280" y="609480"/>
            <a:ext cx="4135680" cy="4572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9"/>
          <p:cNvSpPr/>
          <p:nvPr/>
        </p:nvSpPr>
        <p:spPr>
          <a:xfrm>
            <a:off x="2743200" y="5334120"/>
            <a:ext cx="327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Sylfaen"/>
              </a:rPr>
              <a:t>Siddhartha Gautam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9T20:40:32Z</dcterms:created>
  <dc:creator>Christopher R. Abel</dc:creator>
  <dc:description/>
  <dc:language>en-US</dc:language>
  <cp:lastModifiedBy>hberndt</cp:lastModifiedBy>
  <dcterms:modified xsi:type="dcterms:W3CDTF">2008-12-04T13:38:39Z</dcterms:modified>
  <cp:revision>63</cp:revision>
  <dc:subject/>
  <dc:title>Slide 1</dc:title>
</cp:coreProperties>
</file>